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27152"/>
        <c:axId val="22850501"/>
      </c:barChart>
      <c:catAx>
        <c:axId val="19327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0501"/>
        <c:crosses val="autoZero"/>
        <c:auto val="1"/>
        <c:lblAlgn val="ctr"/>
        <c:lblOffset val="100"/>
        <c:noMultiLvlLbl val="0"/>
      </c:catAx>
      <c:valAx>
        <c:axId val="228505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27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498-25FB-4EEA-BCED-6D6F5035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F29-D9FE-43EE-94B8-DA42711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CA11-2CC3-463B-A598-1353C6EF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8855-CC6B-493F-8269-3D9BFF6D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9BF-7CE3-40A2-972A-83F4DFE0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21E-FCFB-4AFC-9F74-6D922EB1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B24-17B7-4468-88F2-DAFF6B40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1C55-3628-43ED-9E9E-13D29890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387-1E98-4E81-BA00-7A952D2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7F3-E11F-4613-981A-47614E3E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471-D890-4409-950E-DF5BE9C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B32-43E1-461C-B8E9-82B9C84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25C4F-9780-4234-B5AE-AA8795132B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