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56444"/>
        <c:axId val="26740898"/>
      </c:barChart>
      <c:catAx>
        <c:axId val="78356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0898"/>
        <c:crosses val="autoZero"/>
        <c:auto val="1"/>
        <c:lblAlgn val="ctr"/>
        <c:lblOffset val="100"/>
        <c:noMultiLvlLbl val="0"/>
      </c:catAx>
      <c:valAx>
        <c:axId val="26740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56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021-3AC1-4A13-90B2-912A2396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F8-E1B4-4EC6-90D7-1C584D6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EFA-FDF8-4B85-80A3-8E5B1E30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B0F-5511-44E6-8146-FAD13635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9C7-2295-41EA-850E-1642835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2C5-C753-45F5-90D1-00690A0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44-1277-4131-9EF7-4EEC1735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21C-46F4-43FC-949A-BB1BAD2F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375-EEB7-4271-BD54-CEE194C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28F-3D3C-47D3-9E5B-D0552C5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C3D-B72F-40D2-919C-52722E8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133-0C17-4F17-9B4E-185DE74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9C6C-060A-4861-B159-7F1336C5B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