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734690"/>
        <c:axId val="14748990"/>
      </c:barChart>
      <c:catAx>
        <c:axId val="717346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748990"/>
        <c:crosses val="autoZero"/>
        <c:auto val="1"/>
        <c:lblAlgn val="ctr"/>
        <c:lblOffset val="100"/>
        <c:noMultiLvlLbl val="0"/>
      </c:catAx>
      <c:valAx>
        <c:axId val="147489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7346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3AC2-38DD-4088-A0B8-BDFF4270F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FDC1-392A-4F5A-9A25-E7220A80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E2DC-3E02-40F3-9E26-A13536DA8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941F-4E02-46E2-90E2-83B79710F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F424-BECD-4AF7-9867-1D55E1A7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F7D0-68F1-4D49-A58A-7970DB60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6520-F081-455A-8F2B-84C05952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D553-1278-44A1-9520-B57B01D2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99C7-C944-430F-8C85-E92406E6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1B7E-FC7A-428D-9502-EE480B88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D46E-CF52-4154-8DAF-BDBA6BF5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5C00-5ABF-4020-8ADC-F656F806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F50462-F11D-4953-9439-4D4FD939F9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